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png" ContentType="image/png"/>
  <Override PartName="/ppt/media/image2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6D68-F7E5-442B-9D35-DC7A44B4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49C-DD63-41CE-8969-3F33D06E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364-F099-4ABC-AEFF-15F00BCC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D7F-C731-4BB8-81FE-10DB77E8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F1E0-2E46-417F-92AB-E632BDFD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613-8B27-400D-B625-5923920D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8429-D06E-462B-B823-E5D4AE10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E92-AE2B-4652-8089-7DCEC2D6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DDD-F0A3-4AE4-89BB-18E90B50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192-64E2-40AD-8F48-43CC89A7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059-5B38-4250-B0FC-DF299E65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7DD-EBF9-4D84-B439-2D079E3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1740-FCFB-43C4-80F5-BD9DF3B7D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sident of the Unit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4" descr="Obama.jpg"/>
          <p:cNvPicPr/>
          <p:nvPr/>
        </p:nvPicPr>
        <p:blipFill>
          <a:blip r:embed="rId1"/>
          <a:stretch/>
        </p:blipFill>
        <p:spPr>
          <a:xfrm>
            <a:off x="3429000" y="851040"/>
            <a:ext cx="2527200" cy="3416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ate Majority Le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Harry Rei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Placeholder 6" descr="Reid.bmp"/>
          <p:cNvPicPr/>
          <p:nvPr/>
        </p:nvPicPr>
        <p:blipFill>
          <a:blip r:embed="rId1"/>
          <a:stretch/>
        </p:blipFill>
        <p:spPr>
          <a:xfrm>
            <a:off x="2901960" y="612720"/>
            <a:ext cx="3267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overnor of I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erry E. Bransta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Placeholder 5" descr="Branstad.bmp"/>
          <p:cNvPicPr/>
          <p:nvPr/>
        </p:nvPicPr>
        <p:blipFill>
          <a:blip r:embed="rId1"/>
          <a:stretch/>
        </p:blipFill>
        <p:spPr>
          <a:xfrm>
            <a:off x="2992320" y="61272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eutenant Governor of I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Kim Reynold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Placeholder 6" descr="Reynolds.jpg"/>
          <p:cNvPicPr/>
          <p:nvPr/>
        </p:nvPicPr>
        <p:blipFill>
          <a:blip r:embed="rId1"/>
          <a:stretch/>
        </p:blipFill>
        <p:spPr>
          <a:xfrm>
            <a:off x="3030480" y="612720"/>
            <a:ext cx="3009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.S. Representative from Indianola’s Distr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om Latham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Placeholder 9" descr="tom latham.jpg"/>
          <p:cNvPicPr/>
          <p:nvPr/>
        </p:nvPicPr>
        <p:blipFill>
          <a:blip r:embed="rId1"/>
          <a:stretch/>
        </p:blipFill>
        <p:spPr>
          <a:xfrm>
            <a:off x="2209680" y="762120"/>
            <a:ext cx="4837320" cy="36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Cu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Raul Castr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Placeholder 6" descr="castro.bmp"/>
          <p:cNvPicPr/>
          <p:nvPr/>
        </p:nvPicPr>
        <p:blipFill>
          <a:blip r:embed="rId1"/>
          <a:stretch/>
        </p:blipFill>
        <p:spPr>
          <a:xfrm>
            <a:off x="2637000" y="612720"/>
            <a:ext cx="3797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mber of the Iowa Senate from Indianola’s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Kent Sorens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Placeholder 5" descr="sorensen.bmp"/>
          <p:cNvPicPr/>
          <p:nvPr/>
        </p:nvPicPr>
        <p:blipFill>
          <a:blip r:embed="rId1"/>
          <a:stretch/>
        </p:blipFill>
        <p:spPr>
          <a:xfrm>
            <a:off x="3070080" y="612720"/>
            <a:ext cx="29307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mber of the Iowa House from Indianola’s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Glen Massi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Placeholder 10" descr="Massie.bmp"/>
          <p:cNvPicPr/>
          <p:nvPr/>
        </p:nvPicPr>
        <p:blipFill>
          <a:blip r:embed="rId1"/>
          <a:stretch/>
        </p:blipFill>
        <p:spPr>
          <a:xfrm>
            <a:off x="1994040" y="612720"/>
            <a:ext cx="5083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Rus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ladimir Puti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Placeholder 8" descr="putin.jpg"/>
          <p:cNvPicPr/>
          <p:nvPr/>
        </p:nvPicPr>
        <p:blipFill>
          <a:blip r:embed="rId1"/>
          <a:srcRect l="0" t="23815" r="0" b="23815"/>
          <a:stretch/>
        </p:blipFill>
        <p:spPr>
          <a:xfrm>
            <a:off x="2819520" y="1676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Germa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ngela Merk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Placeholder 6" descr="merkel.bmp"/>
          <p:cNvPicPr/>
          <p:nvPr/>
        </p:nvPicPr>
        <p:blipFill>
          <a:blip r:embed="rId1"/>
          <a:stretch/>
        </p:blipFill>
        <p:spPr>
          <a:xfrm>
            <a:off x="2487600" y="612720"/>
            <a:ext cx="40957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e Minister of Great Brit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David Camer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Placeholder 5" descr="cameron.bmp"/>
          <p:cNvPicPr/>
          <p:nvPr/>
        </p:nvPicPr>
        <p:blipFill>
          <a:blip r:embed="rId1"/>
          <a:stretch/>
        </p:blipFill>
        <p:spPr>
          <a:xfrm>
            <a:off x="2478240" y="612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ce-President of the Unit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oe Bid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Placeholder 9" descr="Biden.jpg"/>
          <p:cNvPicPr/>
          <p:nvPr/>
        </p:nvPicPr>
        <p:blipFill>
          <a:blip r:embed="rId1"/>
          <a:stretch/>
        </p:blipFill>
        <p:spPr>
          <a:xfrm>
            <a:off x="3276720" y="612720"/>
            <a:ext cx="252252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ief Justice of the Supreme Co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hief Justice John Rober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Placeholder 6" descr="roberts.bmp"/>
          <p:cNvPicPr/>
          <p:nvPr/>
        </p:nvPicPr>
        <p:blipFill>
          <a:blip r:embed="rId1"/>
          <a:stretch/>
        </p:blipFill>
        <p:spPr>
          <a:xfrm>
            <a:off x="2919240" y="612720"/>
            <a:ext cx="32324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frican-American Member of the Supreme Co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Judge Clarence Thoma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Placeholder 5" descr="thomas.bmp"/>
          <p:cNvPicPr/>
          <p:nvPr/>
        </p:nvPicPr>
        <p:blipFill>
          <a:blip r:embed="rId1"/>
          <a:stretch/>
        </p:blipFill>
        <p:spPr>
          <a:xfrm>
            <a:off x="3098880" y="612720"/>
            <a:ext cx="2873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wing Vote on the Supreme Co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Judge Anthony Kenne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Placeholder 5" descr="kennedy.jpg"/>
          <p:cNvPicPr/>
          <p:nvPr/>
        </p:nvPicPr>
        <p:blipFill>
          <a:blip r:embed="rId1"/>
          <a:stretch/>
        </p:blipFill>
        <p:spPr>
          <a:xfrm>
            <a:off x="2938320" y="612720"/>
            <a:ext cx="3194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 of Agri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om Vilsack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Placeholder 6" descr="vilsack.jpg"/>
          <p:cNvPicPr/>
          <p:nvPr/>
        </p:nvPicPr>
        <p:blipFill>
          <a:blip r:embed="rId1"/>
          <a:stretch/>
        </p:blipFill>
        <p:spPr>
          <a:xfrm>
            <a:off x="2887560" y="612720"/>
            <a:ext cx="3295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F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rancois Hollan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Placeholder 6" descr="slide_225326_956796_large.jpg"/>
          <p:cNvPicPr/>
          <p:nvPr/>
        </p:nvPicPr>
        <p:blipFill>
          <a:blip r:embed="rId1"/>
          <a:srcRect l="1515" t="0" r="151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e Minister of Isra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Benjamin Netanyah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Placeholder 6" descr="net.bmp"/>
          <p:cNvPicPr/>
          <p:nvPr/>
        </p:nvPicPr>
        <p:blipFill>
          <a:blip r:embed="rId1"/>
          <a:srcRect l="67" t="0" r="6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e Minister of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tephen Harper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Placeholder 5" descr="harper.bmp"/>
          <p:cNvPicPr/>
          <p:nvPr/>
        </p:nvPicPr>
        <p:blipFill>
          <a:blip r:embed="rId1"/>
          <a:stretch/>
        </p:blipFill>
        <p:spPr>
          <a:xfrm>
            <a:off x="3048120" y="609480"/>
            <a:ext cx="31384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sident of Ch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Xi Jinpin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Placeholder 8" descr="Xi_Jinping_Sept._19,_2012.jpg"/>
          <p:cNvPicPr/>
          <p:nvPr/>
        </p:nvPicPr>
        <p:blipFill>
          <a:blip r:embed="rId1"/>
          <a:srcRect l="0" t="20130" r="0" b="20130"/>
          <a:stretch/>
        </p:blipFill>
        <p:spPr>
          <a:xfrm>
            <a:off x="2362320" y="1447920"/>
            <a:ext cx="4475160" cy="33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irector of Homel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Janet Napolitano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Placeholder 5" descr="napolitano.bmp"/>
          <p:cNvPicPr/>
          <p:nvPr/>
        </p:nvPicPr>
        <p:blipFill>
          <a:blip r:embed="rId1"/>
          <a:stretch/>
        </p:blipFill>
        <p:spPr>
          <a:xfrm>
            <a:off x="3014640" y="612720"/>
            <a:ext cx="30416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ad of the Federal Reserve 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Ben Bernak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Placeholder 6" descr="bank.bmp"/>
          <p:cNvPicPr/>
          <p:nvPr/>
        </p:nvPicPr>
        <p:blipFill>
          <a:blip r:embed="rId1"/>
          <a:stretch/>
        </p:blipFill>
        <p:spPr>
          <a:xfrm>
            <a:off x="2889360" y="612720"/>
            <a:ext cx="3292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aker of the Ho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John Boehn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Placeholder 7" descr="John Boehner.jpg"/>
          <p:cNvPicPr/>
          <p:nvPr/>
        </p:nvPicPr>
        <p:blipFill>
          <a:blip r:embed="rId1"/>
          <a:stretch/>
        </p:blipFill>
        <p:spPr>
          <a:xfrm>
            <a:off x="2852640" y="612720"/>
            <a:ext cx="33656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ewest Member of the Supreme Cou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Elena Kaga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Placeholder 5" descr="kagan.jpg"/>
          <p:cNvPicPr/>
          <p:nvPr/>
        </p:nvPicPr>
        <p:blipFill>
          <a:blip r:embed="rId1"/>
          <a:stretch/>
        </p:blipFill>
        <p:spPr>
          <a:xfrm>
            <a:off x="2887560" y="612720"/>
            <a:ext cx="3295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-General of United Nations (U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Ban Ki-Mo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Placeholder 6" descr="moon.jpg"/>
          <p:cNvPicPr/>
          <p:nvPr/>
        </p:nvPicPr>
        <p:blipFill>
          <a:blip r:embed="rId1"/>
          <a:stretch/>
        </p:blipFill>
        <p:spPr>
          <a:xfrm>
            <a:off x="2922480" y="612720"/>
            <a:ext cx="3225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Ir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Mahmud Ahmadineja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Placeholder 5" descr="iran.bmp"/>
          <p:cNvPicPr/>
          <p:nvPr/>
        </p:nvPicPr>
        <p:blipFill>
          <a:blip r:embed="rId1"/>
          <a:stretch/>
        </p:blipFill>
        <p:spPr>
          <a:xfrm>
            <a:off x="1792440" y="844560"/>
            <a:ext cx="5486400" cy="36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er of North Ko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Kim Jong-u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Placeholder 7" descr="north korea.jpg"/>
          <p:cNvPicPr/>
          <p:nvPr/>
        </p:nvPicPr>
        <p:blipFill>
          <a:blip r:embed="rId1"/>
          <a:srcRect l="0" t="12509" r="0" b="12509"/>
          <a:stretch/>
        </p:blipFill>
        <p:spPr>
          <a:xfrm>
            <a:off x="2666880" y="914400"/>
            <a:ext cx="3856320" cy="28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yor of Indian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Ken Bresna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Placeholder 5" descr="bresnan.bmp"/>
          <p:cNvPicPr/>
          <p:nvPr/>
        </p:nvPicPr>
        <p:blipFill>
          <a:blip r:embed="rId1"/>
          <a:stretch/>
        </p:blipFill>
        <p:spPr>
          <a:xfrm>
            <a:off x="3211560" y="612720"/>
            <a:ext cx="2647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 of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Hillary Clint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Placeholder 8" descr="Hillary-Clinton-.jpg"/>
          <p:cNvPicPr/>
          <p:nvPr/>
        </p:nvPicPr>
        <p:blipFill>
          <a:blip r:embed="rId1"/>
          <a:stretch/>
        </p:blipFill>
        <p:spPr>
          <a:xfrm>
            <a:off x="2909880" y="612720"/>
            <a:ext cx="3251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.S. Attorne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ric Hold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Placeholder 5" descr="holder.bmp"/>
          <p:cNvPicPr/>
          <p:nvPr/>
        </p:nvPicPr>
        <p:blipFill>
          <a:blip r:embed="rId1"/>
          <a:stretch/>
        </p:blipFill>
        <p:spPr>
          <a:xfrm>
            <a:off x="2478240" y="612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 of Treas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imothy Geithn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Placeholder 5" descr="tim.jpg"/>
          <p:cNvPicPr/>
          <p:nvPr/>
        </p:nvPicPr>
        <p:blipFill>
          <a:blip r:embed="rId1"/>
          <a:stretch/>
        </p:blipFill>
        <p:spPr>
          <a:xfrm>
            <a:off x="1792440" y="728640"/>
            <a:ext cx="5486400" cy="38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retary of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on Panet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Placeholder 7" descr="Timothy Geithner.jpg"/>
          <p:cNvPicPr/>
          <p:nvPr/>
        </p:nvPicPr>
        <p:blipFill>
          <a:blip r:embed="rId1"/>
          <a:stretch/>
        </p:blipFill>
        <p:spPr>
          <a:xfrm>
            <a:off x="3408480" y="906480"/>
            <a:ext cx="226368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cratic Senator from I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om Harki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Placeholder 5" descr="Tom Harkin.jpg"/>
          <p:cNvPicPr/>
          <p:nvPr/>
        </p:nvPicPr>
        <p:blipFill>
          <a:blip r:embed="rId1"/>
          <a:stretch/>
        </p:blipFill>
        <p:spPr>
          <a:xfrm>
            <a:off x="3070080" y="612720"/>
            <a:ext cx="29307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ublican Senator from I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4" descr="Grassley.jpg"/>
          <p:cNvPicPr/>
          <p:nvPr/>
        </p:nvPicPr>
        <p:blipFill>
          <a:blip r:embed="rId1"/>
          <a:stretch/>
        </p:blipFill>
        <p:spPr>
          <a:xfrm>
            <a:off x="2913120" y="612720"/>
            <a:ext cx="32446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harles Grassle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5:10:34Z</dcterms:created>
  <dc:creator>lullmannj</dc:creator>
  <dc:description/>
  <dc:language>en-US</dc:language>
  <cp:lastModifiedBy>lullmannj</cp:lastModifiedBy>
  <dcterms:modified xsi:type="dcterms:W3CDTF">2012-12-09T18:51:51Z</dcterms:modified>
  <cp:revision>37</cp:revision>
  <dc:subject/>
  <dc:title>President of the United St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